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D7DF-0823-48D9-A6A2-3441DFE7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95A6-D2E1-4E46-8DB3-4610A7264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9055-E44F-400C-B8B6-F655F2647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8672-1077-4770-B5F5-E9E2C144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F3BE-9C4B-40DE-8046-4D4E9D52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C888-E2EC-4DDB-8564-4A9BEC52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8018-90BB-4C3B-AA5C-016FA35C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09042-4A1F-4BF7-B85C-2156D509A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8F2C4-1B9D-44FE-9660-AC8721BED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10D6-A647-46D3-B8AA-56FBAEC0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AAEC-6A79-4BE1-9610-A57FC5CC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7B4A-4866-4AF3-A1E3-B7CBE6BA8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D1650-C4AD-4FA1-A998-CC3EE266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56401-FF4C-4C76-B311-E3133BE0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F754-8CEE-47A5-8A2B-FEEBBF4A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EAAE-E2ED-4DC8-B0B3-D7B269E8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092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36400" y="209556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092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36400" y="4025880"/>
            <a:ext cx="249984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478E-A638-43EB-AA75-4D876A30B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8884-CE34-4780-93FA-D0FC28F45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C986-1A07-4ED0-A34F-513B496D7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7FB5-C3DD-425B-ADFE-3EE2F3DF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644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D5A-C9E2-4C95-A8D0-F8A5674E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FEDF-6B0C-457E-AE75-FB1A0EB8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4520" y="402588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C507-36F4-41F6-8E3E-349C0396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4520" y="2095560"/>
            <a:ext cx="378900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25880"/>
            <a:ext cx="7764480" cy="17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37AA-488E-459E-8B49-69019B77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B7B781-E971-4AE0-8405-9C0B3D3977DB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504720" y="6415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7947000" y="307332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Rockwel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644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Bookman Old Style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2095560"/>
            <a:ext cx="776448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5758920" y="5882760"/>
            <a:ext cx="20574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Rockwel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685440" y="5882760"/>
            <a:ext cx="5003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885080" y="5882760"/>
            <a:ext cx="565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000" spc="-1" strike="noStrike">
                <a:solidFill>
                  <a:srgbClr val="ffffff"/>
                </a:solidFill>
                <a:latin typeface="Rockwel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D7E968-B151-43D4-8151-0C506D706FE2}" type="slidenum">
              <a:rPr b="0" lang="en-GB" sz="1000" spc="-1" strike="noStrike">
                <a:solidFill>
                  <a:srgbClr val="ffffff"/>
                </a:solidFill>
                <a:latin typeface="Rockwel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4300"/>
            </a:br>
            <a:r>
              <a:rPr b="1" lang="en-GB" sz="43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1" lang="en-US" sz="4300" spc="-1" strike="noStrike">
              <a:solidFill>
                <a:srgbClr val="ffffff"/>
              </a:solidFill>
              <a:latin typeface="Bookman Old Styl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71680" y="2428920"/>
            <a:ext cx="757224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Learning Intent – To be able to explain what the term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audienc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mean when planning a multi-media presentation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To plan the content of your multi-media presentation, making sure it is </a:t>
            </a:r>
            <a:r>
              <a:rPr b="0" lang="en-GB" sz="2200" spc="-1" strike="noStrike" u="sng">
                <a:solidFill>
                  <a:srgbClr val="ff0000"/>
                </a:solidFill>
                <a:uFillTx/>
                <a:latin typeface="Rockwell"/>
              </a:rPr>
              <a:t>suitabl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for the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purpose</a:t>
            </a:r>
            <a:r>
              <a:rPr b="0" lang="en-GB" sz="2200" spc="-1" strike="noStrike">
                <a:solidFill>
                  <a:srgbClr val="ffffff"/>
                </a:solidFill>
                <a:latin typeface="Rockwell"/>
              </a:rPr>
              <a:t> and </a:t>
            </a:r>
            <a:r>
              <a:rPr b="0" lang="en-GB" sz="2200" spc="-1" strike="noStrike" u="sng">
                <a:solidFill>
                  <a:srgbClr val="ffffff"/>
                </a:solidFill>
                <a:uFillTx/>
                <a:latin typeface="Rockwell"/>
              </a:rPr>
              <a:t>audience</a:t>
            </a: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539640" y="182736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All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Create a word-processed list of points about themselves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Most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create a more detailed document with information about themselves yourself, such as your hobbies, likes, dislikes including images taken from the Internet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Rockwell"/>
              </a:rPr>
              <a:t>Some Students will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Rockwell"/>
              </a:rPr>
              <a:t>Will use formatting techniques to improve the layout of the document and will also begin to plan/design out their work out as a storyboard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Title 1"/>
          <p:cNvSpPr/>
          <p:nvPr/>
        </p:nvSpPr>
        <p:spPr>
          <a:xfrm>
            <a:off x="4287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‘</a:t>
            </a: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All About Me’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Bookman Old Style"/>
              </a:rPr>
              <a:t>Creating a Multimedia Presentation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ffff00"/>
                </a:solidFill>
                <a:latin typeface="Bookman Old Style"/>
              </a:rPr>
              <a:t>Success Criteria</a:t>
            </a:r>
            <a:endParaRPr b="0" lang="en-US" sz="2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2:18:01Z</dcterms:created>
  <dc:creator>peter</dc:creator>
  <dc:description/>
  <dc:language>en-US</dc:language>
  <cp:lastModifiedBy>BRYAN, C (SHS Teacher)</cp:lastModifiedBy>
  <dcterms:modified xsi:type="dcterms:W3CDTF">2020-09-30T15:42:36Z</dcterms:modified>
  <cp:revision>34</cp:revision>
  <dc:subject/>
  <dc:title>All About Me Creating a Multimedia Presentation</dc:title>
</cp:coreProperties>
</file>